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33A8-44D2-47EC-A5EE-2A1146BCE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A033-9A2A-45D0-ACF4-3CD0C8DC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630D-31A0-45DE-8C4E-93511BE96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6EC8-5504-4F98-99DD-F031EFCA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456B-6153-477B-BB3A-E41C0602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4D47-5EBA-4452-8D2F-4EF4042C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3924-66F3-41B3-8DDA-338A09B3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4479-281D-4EE3-9DFF-040D1BBF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0A7A-9EE8-46E4-B5AD-7A354031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1BEE-894E-4D21-8241-440DFFA2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A99A-4E10-45C7-929E-927EDC11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1B2F-4970-486B-8017-3B30B1C7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95A3-236D-4074-AF64-24133BEC9F6B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3.bp.blogspot.com/_4OhEMDFV57k/S5QvgxmZT3I/AAAAAAAAAAk/bu4aezPRgyY/s320/33468984_01.jpg"/>
          <p:cNvPicPr/>
          <p:nvPr/>
        </p:nvPicPr>
        <p:blipFill>
          <a:blip r:embed="rId1"/>
          <a:stretch/>
        </p:blipFill>
        <p:spPr>
          <a:xfrm>
            <a:off x="0" y="0"/>
            <a:ext cx="9013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0600" y="-528480"/>
            <a:ext cx="8915400" cy="22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000" spc="-1" strike="noStrike">
                <a:solidFill>
                  <a:srgbClr val="000000"/>
                </a:solidFill>
                <a:latin typeface="Calibri Light"/>
              </a:rPr>
              <a:t>Frank Lloyd Wright y la ciudad viviente.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900640" y="5732640"/>
            <a:ext cx="347508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Garzón Moleón, Juan Pedro</a:t>
            </a:r>
            <a:br>
              <a:rPr sz="2200"/>
            </a:b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scalona Urquiza, Antonio</a:t>
            </a:r>
            <a:br>
              <a:rPr sz="2200"/>
            </a:b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Díaz Ariza, Rafael</a:t>
            </a:r>
            <a:br>
              <a:rPr sz="2200"/>
            </a:b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Martínez Elías, Antoni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1.bp.blogspot.com/_4OhEMDFV57k/S5gdEcvBcoI/AAAAAAAAAB8/7o6Xj-WAn-Q/s320/escanear0018.jpg"/>
          <p:cNvPicPr/>
          <p:nvPr/>
        </p:nvPicPr>
        <p:blipFill>
          <a:blip r:embed="rId1"/>
          <a:stretch/>
        </p:blipFill>
        <p:spPr>
          <a:xfrm>
            <a:off x="2354400" y="830160"/>
            <a:ext cx="7746840" cy="6027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0200" y="-1746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 Light"/>
              </a:rPr>
              <a:t>Broadacre City 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CuadroTexto 3"/>
          <p:cNvSpPr/>
          <p:nvPr/>
        </p:nvSpPr>
        <p:spPr>
          <a:xfrm>
            <a:off x="160200" y="1027080"/>
            <a:ext cx="403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tegración del campo con la ciudad y la relación con la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naturalez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CuadroTexto 4"/>
          <p:cNvSpPr/>
          <p:nvPr/>
        </p:nvSpPr>
        <p:spPr>
          <a:xfrm>
            <a:off x="160200" y="2554200"/>
            <a:ext cx="533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da familia dispondría de un acre para vivir y trabajar bi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CuadroTexto 6"/>
          <p:cNvSpPr/>
          <p:nvPr/>
        </p:nvSpPr>
        <p:spPr>
          <a:xfrm>
            <a:off x="76320" y="1846440"/>
            <a:ext cx="69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pone una ciudad horizontal dejando de lado la zonific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CuadroTexto 8"/>
          <p:cNvSpPr/>
          <p:nvPr/>
        </p:nvSpPr>
        <p:spPr>
          <a:xfrm>
            <a:off x="76320" y="339876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éxito del individuo le viene dado por una mayor libertad de movimien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uadroTexto 9"/>
          <p:cNvSpPr/>
          <p:nvPr/>
        </p:nvSpPr>
        <p:spPr>
          <a:xfrm>
            <a:off x="76320" y="4237200"/>
            <a:ext cx="69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ran importancia a la construcción de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utopista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eródrom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uadroTexto 10"/>
          <p:cNvSpPr/>
          <p:nvPr/>
        </p:nvSpPr>
        <p:spPr>
          <a:xfrm>
            <a:off x="108000" y="4800600"/>
            <a:ext cx="69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amaño máximo de 11km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uadroTexto 7"/>
          <p:cNvSpPr/>
          <p:nvPr/>
        </p:nvSpPr>
        <p:spPr>
          <a:xfrm>
            <a:off x="7408800" y="930132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cierto tumor de maligno crecimiento… una amenaza para el futuro de la humanidad”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4200" y="95400"/>
            <a:ext cx="290376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 Light"/>
              </a:rPr>
              <a:t>El concep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CuadroTexto 4"/>
          <p:cNvSpPr/>
          <p:nvPr/>
        </p:nvSpPr>
        <p:spPr>
          <a:xfrm>
            <a:off x="5613480" y="123840"/>
            <a:ext cx="44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concepto de Ciudad Viviente se nutre claramente de su condición de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ambio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volución continu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s://entrebastidores.files.wordpress.com/2011/09/33468984_02.jpg"/>
          <p:cNvPicPr/>
          <p:nvPr/>
        </p:nvPicPr>
        <p:blipFill>
          <a:blip r:embed="rId1"/>
          <a:stretch/>
        </p:blipFill>
        <p:spPr>
          <a:xfrm>
            <a:off x="214200" y="911160"/>
            <a:ext cx="5197680" cy="5807160"/>
          </a:xfrm>
          <a:prstGeom prst="rect">
            <a:avLst/>
          </a:prstGeom>
          <a:ln w="0">
            <a:noFill/>
          </a:ln>
        </p:spPr>
      </p:pic>
      <p:sp>
        <p:nvSpPr>
          <p:cNvPr id="56" name="CuadroTexto 15"/>
          <p:cNvSpPr/>
          <p:nvPr/>
        </p:nvSpPr>
        <p:spPr>
          <a:xfrm>
            <a:off x="7845480" y="13557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s técnicas avanzadas harían posible la ciud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CuadroTexto 16"/>
          <p:cNvSpPr/>
          <p:nvPr/>
        </p:nvSpPr>
        <p:spPr>
          <a:xfrm>
            <a:off x="5769000" y="230976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iudad futuris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uadroTexto 17"/>
          <p:cNvSpPr/>
          <p:nvPr/>
        </p:nvSpPr>
        <p:spPr>
          <a:xfrm>
            <a:off x="7408800" y="298620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utopista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símbolo hilo y conductor de la libertad huma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uadroTexto 19"/>
          <p:cNvSpPr/>
          <p:nvPr/>
        </p:nvSpPr>
        <p:spPr>
          <a:xfrm>
            <a:off x="5769000" y="3940200"/>
            <a:ext cx="574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erotores especie de helicópteros que no necesitaba campos de aterrizaje. También diseñó una especie de coches del futuro de dos rued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CuadroTexto 7"/>
          <p:cNvSpPr/>
          <p:nvPr/>
        </p:nvSpPr>
        <p:spPr>
          <a:xfrm>
            <a:off x="7408800" y="930132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cierto tumor de maligno crecimiento… una amenaza para el futuro de la humanidad”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http://2.bp.blogspot.com/_4OhEMDFV57k/S5Qv9ZKmr-I/AAAAAAAAAA0/Zo_IQWriHkg/s320/Broadacdre_city_5.jpg"/>
          <p:cNvPicPr/>
          <p:nvPr/>
        </p:nvPicPr>
        <p:blipFill>
          <a:blip r:embed="rId1"/>
          <a:stretch/>
        </p:blipFill>
        <p:spPr>
          <a:xfrm>
            <a:off x="6367320" y="3041640"/>
            <a:ext cx="4764240" cy="3529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://1.bp.blogspot.com/_4OhEMDFV57k/S5QvpC0Wk_I/AAAAAAAAAAs/EG3iaiKBNF0/s320/broadacre1.jpg"/>
          <p:cNvPicPr/>
          <p:nvPr/>
        </p:nvPicPr>
        <p:blipFill>
          <a:blip r:embed="rId2"/>
          <a:stretch/>
        </p:blipFill>
        <p:spPr>
          <a:xfrm>
            <a:off x="457200" y="915840"/>
            <a:ext cx="4703760" cy="3424320"/>
          </a:xfrm>
          <a:prstGeom prst="rect">
            <a:avLst/>
          </a:prstGeom>
          <a:ln w="0">
            <a:noFill/>
          </a:ln>
        </p:spPr>
      </p:pic>
      <p:sp>
        <p:nvSpPr>
          <p:cNvPr id="63" name="CuadroTexto 3"/>
          <p:cNvSpPr/>
          <p:nvPr/>
        </p:nvSpPr>
        <p:spPr>
          <a:xfrm>
            <a:off x="192240" y="12384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tegración del campo con la ciudad y la relación con la naturalez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uadroTexto 4"/>
          <p:cNvSpPr/>
          <p:nvPr/>
        </p:nvSpPr>
        <p:spPr>
          <a:xfrm>
            <a:off x="5861160" y="915840"/>
            <a:ext cx="44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Wright Argumentaba que por el camino que se seguía las ciudades cada vez tendrían más congestión y estarían más deshumanizadas, ya que siguiendo el sistema que se empleaba se destruía la naturaleza, en vez de adaptarse o crearl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uadroTexto 8"/>
          <p:cNvSpPr/>
          <p:nvPr/>
        </p:nvSpPr>
        <p:spPr>
          <a:xfrm>
            <a:off x="1150920" y="4484520"/>
            <a:ext cx="44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</a:rPr>
              <a:t>Es ya evidente que la vida de hoy debe preservarse más naturalmente mediante una mayor cantidad de luz, más libertad de movimiento, y una libertad espacial más general en el establecimiento ideal de lo que llamamos civilización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ángulo 2"/>
          <p:cNvSpPr/>
          <p:nvPr/>
        </p:nvSpPr>
        <p:spPr>
          <a:xfrm>
            <a:off x="9975960" y="123840"/>
            <a:ext cx="180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a Id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Marcador de contenido 3" descr=""/>
          <p:cNvPicPr/>
          <p:nvPr/>
        </p:nvPicPr>
        <p:blipFill>
          <a:blip r:embed="rId1"/>
          <a:stretch/>
        </p:blipFill>
        <p:spPr>
          <a:xfrm>
            <a:off x="681120" y="1576440"/>
            <a:ext cx="4979880" cy="3735360"/>
          </a:xfrm>
          <a:prstGeom prst="rect">
            <a:avLst/>
          </a:prstGeom>
          <a:ln w="0">
            <a:noFill/>
          </a:ln>
        </p:spPr>
      </p:pic>
      <p:sp>
        <p:nvSpPr>
          <p:cNvPr id="68" name="CuadroTexto 5"/>
          <p:cNvSpPr/>
          <p:nvPr/>
        </p:nvSpPr>
        <p:spPr>
          <a:xfrm>
            <a:off x="790560" y="495360"/>
            <a:ext cx="866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Wright buscaba crear una ciudad viva, que evolucionase, una ciudad con luz, grandes espacios y con pequeñas unidades funcionales: industriales, comerciales, sanitarias, aéreas, vinculadas a las rutas aéreas y terrestres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uadroTexto 6"/>
          <p:cNvSpPr/>
          <p:nvPr/>
        </p:nvSpPr>
        <p:spPr>
          <a:xfrm>
            <a:off x="6588000" y="2013120"/>
            <a:ext cx="4511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- Estar más cerca de la naturalez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- Planificar sobre las necesidades y                                                   circunstancias futura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- Modelo democrático ajeno a la especulac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- Sin masificacion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- Optimización de las distancias y del tiemp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- Dinamism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- Descongest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- La ciudad pertenece a cada un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- En la que la arquitectura fuese orgánic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ángulo 9"/>
          <p:cNvSpPr/>
          <p:nvPr/>
        </p:nvSpPr>
        <p:spPr>
          <a:xfrm>
            <a:off x="681120" y="5470560"/>
            <a:ext cx="105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gnoradas por la mayoría de nuestros ciudadanos, las circunstancias nos están imponiendo una ciudad más natural, y está sucediendo sobre el mismo terreno que pisamos, siendo aquélla impulsada por circunstancias que se nos escapan… ¿Por qué no dirigimos lo “inevitable” y lo embellecemos mediante la benévola y profética autoridad del diseño orgánic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85880" y="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 Light"/>
              </a:rPr>
              <a:t>Análisis Fina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CuadroTexto 5"/>
          <p:cNvSpPr/>
          <p:nvPr/>
        </p:nvSpPr>
        <p:spPr>
          <a:xfrm>
            <a:off x="687240" y="4540320"/>
            <a:ext cx="103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modelo de Ciudad Viviente no representa una solución realista a los problemas de las ciudades moderna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Imagen 1" descr=""/>
          <p:cNvPicPr/>
          <p:nvPr/>
        </p:nvPicPr>
        <p:blipFill>
          <a:blip r:embed="rId1"/>
          <a:stretch/>
        </p:blipFill>
        <p:spPr>
          <a:xfrm>
            <a:off x="785880" y="1103400"/>
            <a:ext cx="10418760" cy="3436920"/>
          </a:xfrm>
          <a:prstGeom prst="rect">
            <a:avLst/>
          </a:prstGeom>
          <a:ln w="0">
            <a:noFill/>
          </a:ln>
        </p:spPr>
      </p:pic>
      <p:sp>
        <p:nvSpPr>
          <p:cNvPr id="74" name="Rectángulo 2"/>
          <p:cNvSpPr/>
          <p:nvPr/>
        </p:nvSpPr>
        <p:spPr>
          <a:xfrm>
            <a:off x="687240" y="5072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- Baja densidad excesiva. Consecuenci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ángulo 3"/>
          <p:cNvSpPr/>
          <p:nvPr/>
        </p:nvSpPr>
        <p:spPr>
          <a:xfrm>
            <a:off x="687240" y="564192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Uso indiscriminado del 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automóvi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ángulo 11"/>
          <p:cNvSpPr/>
          <p:nvPr/>
        </p:nvSpPr>
        <p:spPr>
          <a:xfrm>
            <a:off x="687240" y="610380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Aislamiento de person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ángulo 12"/>
          <p:cNvSpPr/>
          <p:nvPr/>
        </p:nvSpPr>
        <p:spPr>
          <a:xfrm>
            <a:off x="7559640" y="56419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Excesivo crecimiento demográfi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ángulo 13"/>
          <p:cNvSpPr/>
          <p:nvPr/>
        </p:nvSpPr>
        <p:spPr>
          <a:xfrm>
            <a:off x="7559640" y="60627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Problemas de congestión en zonas de trabaj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8T14:22:40Z</dcterms:created>
  <dc:creator>Juan Pedro</dc:creator>
  <dc:description/>
  <dc:language>en-US</dc:language>
  <cp:lastModifiedBy>antonio escalona</cp:lastModifiedBy>
  <dcterms:modified xsi:type="dcterms:W3CDTF">2015-04-29T00:17:10Z</dcterms:modified>
  <cp:revision>23</cp:revision>
  <dc:subject/>
  <dc:title>Presentación de PowerPoint</dc:title>
</cp:coreProperties>
</file>